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935C-B383-4A4A-8C18-737C9BEE78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92E8-4C59-4CC0-A4A3-6DF1B49CCF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box on pag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DC3E-738B-4BAD-9E86-953F35B77A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186E-14B9-43DF-9572-9F61E38382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F0C-7348-465F-8DF1-1D98CF2C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B62C-D5BE-4B5A-8856-5F29C394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09B-C681-4F04-B138-FB482B94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A6D-6838-4B38-8A1C-FEB05816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1746-F1D3-4C45-8252-D73EF6A1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10B-5894-40D6-A29B-95217267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F0B9-34EB-4635-8359-FA17F937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608-4766-49C9-B41F-E6E9A924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D0D8-F3D1-4DE5-9D2F-9BF92B39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654-03B9-4A8C-A172-B0B6C04E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C802-0C2D-417D-A12F-9769CE72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40A7-E5FF-47AD-B186-85D272E0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324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Verdana"/>
              </a:rPr>
              <a:t>Heavy H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326200" y="29718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1600200" y="64771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952880" y="3809880"/>
            <a:ext cx="3962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Working Ms Roboto\Gary Bauer\2014 Supplements\Gosselin\PPTs - Laura Becker\Gosselin 5e cover.jpg"/>
          <p:cNvPicPr/>
          <p:nvPr/>
        </p:nvPicPr>
        <p:blipFill>
          <a:blip r:embed="rId4"/>
          <a:stretch/>
        </p:blipFill>
        <p:spPr>
          <a:xfrm>
            <a:off x="762120" y="1905120"/>
            <a:ext cx="3370320" cy="4216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7"/>
          <p:cNvSpPr/>
          <p:nvPr/>
        </p:nvSpPr>
        <p:spPr>
          <a:xfrm>
            <a:off x="1600200" y="6324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6057-B95D-4194-97F8-0064F51ACC7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4952880" y="3809880"/>
            <a:ext cx="3962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766200" y="2558880"/>
            <a:ext cx="114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5105520" y="390996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Adult Perpet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so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ands for constant attention to the exclusion of friends and family are a form of isolating the victi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becomes a form of isolation when the abuser insists on being the sole focus of the victim’s lif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ands that the victim must not work or denial of transportation to leave the home are extreme form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nomic and physical isolation occurs when the victim is cut off from resources or protection from abus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so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ol tactics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oving the phone receiver (when the batterer goes to wor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abling or destroying motor vehicles to limit the victim’s mo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osely monitoring the odometer reading on motor veh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cking the thermostat in the winter (as a form of tortur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yles of Violen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jority of domestic violence offenders have a prior criminal history for nonviolent and violent offenses against males as well as fema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violent styles used by men against women have been identifi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rannical offend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oder offend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styles use violence as a response to intolerable emotions of anxiety or anger, and are unable to understand the impact of the violence on their part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yrannical Offender Characteristic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ows what he is doing and intends to frighten, intimidate, and punish his part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s his violence as a justified or understandable response to frustration and an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nds to minimize his violence by admitting to having committed verbal ab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s his partner as being submissive and careful around h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ploder Offender Characteristic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the violence to get distance from his partner and to silence 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ually acknowledges that he has used violence but blames his partner for provoking hi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ociopathic Batterer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type of offender who is likely to have a diagnosable personality disorder or a problem with substance abu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atens to kill or commit more viole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endency to make sexual demands after committing the viol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not apologetic and sometimes uses religious beliefs to justify the viol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tisocial Battere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n individual with a diagnosable mental illness or personality disorder, or a substance abuse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st dangerous group of offen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more likely to have a criminal re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ole of Alcohol and Drug 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is a significant relationship between excessive drinking/drug use and IPV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ssociation is contributory rather than caus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tance abuse increases the risk of IPV occur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tance abuse increases the severity of injury to the victi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ole of Animal Cruelt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hreat of violence against a pet is a strong predictor of IPV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tterers who also abuse their pet use more forms of violence and demonstrate greater use of controlling behavi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t abuse has been shown to influence the decision of abused women to seek safe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users harm pets to punish the victim for leaving or to coerce them to retur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olice Officers Who Batte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indicates higher incident rates of IPV among law enforcement professiona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ocumentation of incidents varies dramatically by depart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al and psychological domination is a component of the policing job, which may create occupational stress for the individual while off du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icers may experience emotional exhaustion and burnout rising to the level of posttraumatic stress disorder (PTSD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apter Objectiv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characteristics of intimate partner violence (IPV) offen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 examples of intimate violence typologies, and explain how they may help criminal justice professionals better protect the survivors of IPV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the policy recommended by the International Association of Chiefs of Police in dealing with police officer batter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the criminal justice interventions for IPV on military install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et abuse in the context of IPV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litary Offend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PV committed by military personnel is challenging due to the problem of jurisdict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families live outside of military installations, and any family or IPV incident that occurs off the military installation is under the jurisdiction of local civilian authorit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litary-related victims fail to report for reasons similar to those of other victims of IPV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ce members must move every three years, isolating the victim, who is unable to build a support system from friends and fami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busive M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jority of IPV perpetrators are me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users often have low self-esteem and are overly dependent on the victi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are extremely jealous and possessiv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buser blames others for his actions and denies or minimizes the effects of his violence on his victim(s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users often present a very different posture in public than they do in the privacy of their own ho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busive M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types of violent me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amily-only offender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— These perpetrators in may have a history of exposure to aggression in their family of orig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ysphoric or borderline offender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— These men are believed to have had a history of child abuse and parental reje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enerally violent or antisocial offender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— The batterers in this category are the most aggressiv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busive Wom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omen perpetrate violence in intimate partner relationships at rates equal to or greater than those of m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a few studies exist on the characteristics of women who are violent toward an intimate partn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ent studies indicate women who use force in their intimate partner relationships are victims of violence who respond through self-defense and retaliatory use of for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arance, L. Y. (2006). Serving women who use force in their intimate heterosexual relationships: An extended view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Violence Against Women, 12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7), 622–640. doi:10.1177/107780120629024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ffenders Against Older Adul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use of older adults is complex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der abuse is a reportable condition in all 50 states and the definition varies from state to stat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offender is a family member, it is considered domestic or family ab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perpetrator is the spouse or live-in partner of the victim, it is called intimate partner ab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buser Characteristic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terature characterizes individual batterers as problematic individuals displaying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or impulse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gr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ar of intim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otional depend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ar of aband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aired ego functio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buser Characteristic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der and a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offenders of IPV are men who perpetrate against wom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IPV abuse offenders are age 30 or old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use offenders in a dating relationship tend to be younger; about one-half of the offenders are between the ages of 18 and 29 years of 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Klein, A. (2008)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Practical implications of current domestic violence research. Part II: Prosecution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. Washington, DC: National Institute of Justic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trolling Behavi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erpetrator often seeks control over the victim’s time, dress, and behavi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ling behaviors show contempt and a general lack of respect for the part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ulting behavior and put-downs are techniques used to attack the confidence of the victim and to ensure future domina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se of derogatory language in addressing one’s partner may start as the intimates develop a familiarity with each ot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ear and Intimid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ar and intimidation 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achieved through violence or the perception of impending viol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ctims of repetitive abuse recall a particular “look” from the offender that serves as a warning signal of an explosion that is about to occu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aised fist or hand in a threatening gesture serves the same purpo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earm use or display in or around the house or at pets is a severe form of intimid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imal Cruelt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ults who perpetrate intimate partner violence often abuse the victim’s pet(s) as a means to control and intimidate the surviv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anip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48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users have been characterized as the masters of manip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fter an abusive attack, it is not unusual for the offender to beg for forgivenes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unrealistic demand for proof of love or loyalty is characteristic of abusive dating relationship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ercion into sexual relations as a condition of a continued relationship can be extremely dangerous for the victim during a dating relationship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cessive Rule-Mak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 partner makes rules that the other must follow, it signifies an unequal relationship based on dominanc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penalty or punishment is attached to the failure to fulfill expecta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king back a gift or present because “you are not a good girl” indicates an anticipation of rule following by the abuser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lies that some form of punishment will result for unfulfilled expecta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6T21:31:15Z</dcterms:created>
  <dc:creator>cjcoordccol</dc:creator>
  <dc:description/>
  <dc:language>en-US</dc:language>
  <cp:lastModifiedBy>Cecil, Kevin</cp:lastModifiedBy>
  <dcterms:modified xsi:type="dcterms:W3CDTF">2013-09-16T14:05:50Z</dcterms:modified>
  <cp:revision>104</cp:revision>
  <dc:subject/>
  <dc:title>Slide 1</dc:title>
</cp:coreProperties>
</file>